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8F135-E98D-4E6B-A3B5-D25889A28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7595D-543F-415E-BAA3-0E1E9D851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0377F-DF78-4E1D-87EC-EED08EAE5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87F70-3F1C-4ECA-9120-9E2132B50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1FD2F-F485-4CC5-A64A-EA685D177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2962A-D9AA-4E6D-93D6-9646EE004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0686D-0342-4E83-9444-666D80226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E4A2E-3CEF-461E-B581-C37080B4A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10C89-8360-4F06-B2D6-D7DDF3A2D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A8D93-9960-4CD4-AFBD-A8D28F535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DE2AF-8793-4475-88A3-87A31AEB6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CE490-7465-4CE7-BF9E-177806F49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1263B-B2C4-4C08-AE13-0F953F0D58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k12.wa.us/Resources/" TargetMode="External"/><Relationship Id="rId2" Type="http://schemas.openxmlformats.org/officeDocument/2006/relationships/image" Target="../media/image1.png"/><Relationship Id="rId3" Type="http://schemas.openxmlformats.org/officeDocument/2006/relationships/hyperlink" Target="http://www.k12.wa.us/CurriculumInstruct/" TargetMode="External"/><Relationship Id="rId4" Type="http://schemas.openxmlformats.org/officeDocument/2006/relationships/hyperlink" Target="http://www.k12.wa.us/CurriculumInstruct/" TargetMode="External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137960" y="2286000"/>
            <a:ext cx="28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k12.wa.us/Resources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6" descr=""/>
          <p:cNvPicPr/>
          <p:nvPr/>
        </p:nvPicPr>
        <p:blipFill>
          <a:blip r:embed="rId2"/>
          <a:stretch/>
        </p:blipFill>
        <p:spPr>
          <a:xfrm>
            <a:off x="457200" y="3276720"/>
            <a:ext cx="5257800" cy="5713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685440" y="3809520"/>
            <a:ext cx="3429000" cy="30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k12.wa.us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CurriculumInstruc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9" descr=""/>
          <p:cNvPicPr/>
          <p:nvPr/>
        </p:nvPicPr>
        <p:blipFill>
          <a:blip r:embed="rId5"/>
          <a:stretch/>
        </p:blipFill>
        <p:spPr>
          <a:xfrm>
            <a:off x="5334120" y="1371600"/>
            <a:ext cx="1333440" cy="73656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10"/>
          <p:cNvSpPr/>
          <p:nvPr/>
        </p:nvSpPr>
        <p:spPr>
          <a:xfrm>
            <a:off x="5187960" y="2133720"/>
            <a:ext cx="2698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standards.ospi.k12.wa.us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3"/>
          <p:cNvSpPr/>
          <p:nvPr/>
        </p:nvSpPr>
        <p:spPr>
          <a:xfrm>
            <a:off x="1060560" y="5867280"/>
            <a:ext cx="27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reportcard.ospi.k12.wa.us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15" descr=""/>
          <p:cNvPicPr/>
          <p:nvPr/>
        </p:nvPicPr>
        <p:blipFill>
          <a:blip r:embed="rId6"/>
          <a:stretch/>
        </p:blipFill>
        <p:spPr>
          <a:xfrm>
            <a:off x="5029200" y="3733920"/>
            <a:ext cx="2222640" cy="109224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18"/>
          <p:cNvSpPr/>
          <p:nvPr/>
        </p:nvSpPr>
        <p:spPr>
          <a:xfrm>
            <a:off x="4337640" y="4952880"/>
            <a:ext cx="438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k12.wa.us/TeacherResourceTool2009-10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" descr=""/>
          <p:cNvPicPr/>
          <p:nvPr/>
        </p:nvPicPr>
        <p:blipFill>
          <a:blip r:embed="rId7"/>
          <a:stretch/>
        </p:blipFill>
        <p:spPr>
          <a:xfrm>
            <a:off x="1143000" y="5105520"/>
            <a:ext cx="2286000" cy="596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" descr="Screen shot 2011-10-07 at 8.31.28 AM.png"/>
          <p:cNvPicPr/>
          <p:nvPr/>
        </p:nvPicPr>
        <p:blipFill>
          <a:blip r:embed="rId8"/>
          <a:stretch/>
        </p:blipFill>
        <p:spPr>
          <a:xfrm>
            <a:off x="1828800" y="304920"/>
            <a:ext cx="1525680" cy="198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5T05:44:55Z</dcterms:created>
  <dc:creator>Mark Roddy User</dc:creator>
  <dc:description/>
  <dc:language>en-US</dc:language>
  <cp:lastModifiedBy>Mark Roddy</cp:lastModifiedBy>
  <dcterms:modified xsi:type="dcterms:W3CDTF">2011-10-07T15:35:48Z</dcterms:modified>
  <cp:revision>3</cp:revision>
  <dc:subject/>
  <dc:title>PowerPoint Presentation</dc:title>
</cp:coreProperties>
</file>